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FBD5-6F22-4DFF-B92C-C18A95EE6E86}"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06DA-E44A-4775-B504-E3369CD7608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390600" y="4173120"/>
            <a:ext cx="5929200" cy="48373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he  colour shows a difference between the two sets of principles.  Those in blackare content oriented while those in red are process orient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ip for presenter. HR Principles will be treated in more detailed through a separate presentation. This is to provide quick understanding of definition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Universality and inalienability:  </a:t>
            </a:r>
            <a:r>
              <a:rPr b="0" lang="en-GB" sz="1000" spc="-1" strike="noStrike">
                <a:solidFill>
                  <a:srgbClr val="000000"/>
                </a:solidFill>
                <a:latin typeface="Calibri"/>
                <a:ea typeface="ＭＳ Ｐゴシック"/>
              </a:rPr>
              <a:t>Human rights are universal and inalienable. Every man, woman or child everywhere in the world are holders of human rights by virtue of being human. The human person in whom they inhere cannot voluntarily give them up. Nor can others take them away from him or her. Article 1 of the UDHR, “All human beings are born free and equal in dignity and rights.” Universality also refers to the obligation of every State to respect and protect the human rights in international instruments. These rights form a core minimum standard to be observed by every Stat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Indivisibility: </a:t>
            </a:r>
            <a:r>
              <a:rPr b="0" lang="en-GB" sz="1000" spc="-1" strike="noStrike">
                <a:solidFill>
                  <a:srgbClr val="000000"/>
                </a:solidFill>
                <a:latin typeface="Calibri"/>
                <a:ea typeface="ＭＳ Ｐゴシック"/>
              </a:rPr>
              <a:t>Human rights are indivisible. Whether of a civil, cultural, economic, political or social nature, they are </a:t>
            </a:r>
            <a:r>
              <a:rPr b="1" lang="en-GB" sz="1000" spc="-1" strike="noStrike">
                <a:solidFill>
                  <a:srgbClr val="000000"/>
                </a:solidFill>
                <a:latin typeface="Calibri"/>
                <a:ea typeface="ＭＳ Ｐゴシック"/>
              </a:rPr>
              <a:t>all </a:t>
            </a:r>
            <a:r>
              <a:rPr b="0" lang="en-GB" sz="1000" spc="-1" strike="noStrike">
                <a:solidFill>
                  <a:srgbClr val="000000"/>
                </a:solidFill>
                <a:latin typeface="Calibri"/>
                <a:ea typeface="ＭＳ Ｐゴシック"/>
              </a:rPr>
              <a:t>inherent to the dignity of every human person.  Consequently, they all have equal status as rights, and cannot be rank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Inter-dependence and Inter-relatedness: </a:t>
            </a:r>
            <a:r>
              <a:rPr b="0" lang="en-GB" sz="1000" spc="-1" strike="noStrike">
                <a:solidFill>
                  <a:srgbClr val="000000"/>
                </a:solidFill>
                <a:latin typeface="Calibri"/>
                <a:ea typeface="ＭＳ Ｐゴシック"/>
              </a:rPr>
              <a:t>The realization of one right often depends, wholly or in part, upon the realization of others. For instance, realization of the right to health may depend, in certain circumstances, on realization of the right to education, the right to information, the right to food and nutrition, the right to safe water and sanitation  etc. A malnourished girl is unable to perform in school and to benefit from an education that will enable her to participate in civil society and in the democratic proce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Equality and Non-discrimination</a:t>
            </a:r>
            <a:r>
              <a:rPr b="1" i="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human rights of both men and women on the basis of equality is an absolute requirement of international human rights law.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articipation and Inclusion: </a:t>
            </a:r>
            <a:r>
              <a:rPr b="0" lang="en-GB" sz="1000" spc="-1" strike="noStrike">
                <a:solidFill>
                  <a:srgbClr val="000000"/>
                </a:solidFill>
                <a:latin typeface="Calibri"/>
                <a:ea typeface="ＭＳ Ｐゴシック"/>
              </a:rPr>
              <a:t>Every person and all peoples are entitled to active, free and meaningful participation in, contribution to, and enjoyment of civil, economic, social, cultural and political development in which human rights and fundamental freedoms can be realized.</a:t>
            </a:r>
            <a:r>
              <a:rPr b="0" lang="en-US" sz="1000" spc="-1" strike="noStrike">
                <a:solidFill>
                  <a:srgbClr val="000000"/>
                </a:solidFill>
                <a:latin typeface="Calibri"/>
                <a:ea typeface="ＭＳ Ｐゴシック"/>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ccountability and Rule of Law</a:t>
            </a:r>
            <a:r>
              <a:rPr b="1" i="1" lang="en-GB" sz="1000" spc="-1" strike="noStrike">
                <a:solidFill>
                  <a:srgbClr val="000000"/>
                </a:solidFill>
                <a:latin typeface="Calibri"/>
                <a:ea typeface="ＭＳ Ｐゴシック"/>
              </a:rPr>
              <a:t>:</a:t>
            </a:r>
            <a:r>
              <a:rPr b="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a:t>
            </a: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F7B8-914E-4914-A418-605F8C4D4F3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43000" y="685800"/>
            <a:ext cx="457344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Equality and Non-discrimination</a:t>
            </a:r>
            <a:r>
              <a:rPr b="1" i="1" lang="en-GB" sz="1000" spc="-1" strike="noStrike">
                <a:solidFill>
                  <a:srgbClr val="000000"/>
                </a:solidFill>
                <a:latin typeface="Calibri"/>
                <a:ea typeface="ＭＳ Ｐゴシック"/>
              </a:rPr>
              <a:t>:</a:t>
            </a:r>
            <a:r>
              <a:rPr b="0" i="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rights of both men and women on the basis of equality is an absolute requirement of international human rights law.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ese principles:</a:t>
            </a:r>
            <a:r>
              <a:rPr b="0" lang="en-GB" sz="1000" spc="-1" strike="noStrike">
                <a:solidFill>
                  <a:srgbClr val="000000"/>
                </a:solidFill>
                <a:latin typeface="Calibri"/>
                <a:ea typeface="ＭＳ Ｐゴシック"/>
              </a:rPr>
              <a:t> The question to ask is which are the sectors of society excluded or not enjoying equal status and thus deprived of exercising their human rights? Are there laws in the country that are discriminatory? Are there institutional, administrative or regulatory practices that are discriminatory against a particular group of the population? Is there a prevailing culture of </a:t>
            </a:r>
            <a:r>
              <a:rPr b="0" i="1" lang="en-GB" sz="1000" spc="-1" strike="noStrike">
                <a:solidFill>
                  <a:srgbClr val="000000"/>
                </a:solidFill>
                <a:latin typeface="Calibri"/>
                <a:ea typeface="ＭＳ Ｐゴシック"/>
              </a:rPr>
              <a:t>“de facto”</a:t>
            </a:r>
            <a:r>
              <a:rPr b="0" lang="en-GB" sz="1000" spc="-1" strike="noStrike">
                <a:solidFill>
                  <a:srgbClr val="000000"/>
                </a:solidFill>
                <a:latin typeface="Calibri"/>
                <a:ea typeface="ＭＳ Ｐゴシック"/>
              </a:rPr>
              <a:t> discrimination in the society? Are there national standards for positive discrimination or affirmative action recognized and applied?. It is important to keep in mind that the human rights treaties have identified particular discriminated and disadvantaged groups for focused attention: women (CEDAW), children (CRC), racial and ethnic minorities (CERD), and migrant workers (CM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Structural discrimination: </a:t>
            </a:r>
            <a:r>
              <a:rPr b="0" lang="en-GB" sz="1000" spc="-1" strike="noStrike">
                <a:solidFill>
                  <a:srgbClr val="000000"/>
                </a:solidFill>
                <a:latin typeface="Calibri"/>
                <a:ea typeface="ＭＳ Ｐゴシック"/>
              </a:rPr>
              <a:t>derives from historic processes of exclusion from access to the economic, political and institutional resources needed to live on an equal footing with the rest of the population</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B4D5-2A9F-450A-9E49-6B3FAACDB18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344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articipation and Inclusion: </a:t>
            </a:r>
            <a:r>
              <a:rPr b="0" lang="en-GB" sz="1000" spc="-1" strike="noStrike">
                <a:solidFill>
                  <a:srgbClr val="000000"/>
                </a:solidFill>
                <a:latin typeface="Calibri"/>
                <a:ea typeface="ＭＳ Ｐゴシック"/>
              </a:rPr>
              <a:t>Every person and all peoples are entitled to active, free and meaningful participation in, contribution to, and enjoyment of civil, economic, social, cultural and political development in which human rights and fundamental freedoms can be realiz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is principle:</a:t>
            </a:r>
            <a:r>
              <a:rPr b="0" lang="en-GB" sz="1000" spc="-1" strike="noStrike">
                <a:solidFill>
                  <a:srgbClr val="000000"/>
                </a:solidFill>
                <a:latin typeface="Calibri"/>
                <a:ea typeface="ＭＳ Ｐゴシック"/>
              </a:rPr>
              <a:t> The question to ask is whether marginalized and excluded people are able to participate freely in their own development and whether there are opportunities for participation? Do marginalized groups have access to information and the capacities to participate meaningfully And make specific proposals? are there spaces for public participation in the decision-making process? Are there parallel mechanisms disempowering the participation? Is there an active and independent civil society in the country that has the capacity to participate in such processes? Are civil society organizations representing the voice of the most marginalized and excluded? In the context of development cooperation it is necessary to ask whether the beneficiary target group is involved in the development and implementation, monitoring and evaluation of the programm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he Meaning of Participation is Empower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 HRBA entails the free, active and meaningful involvement and participation of individuals and social groups in the development process. The meaning of participation here is in the sense of “empowerment” of individuals and groups, which implies significant control over decision-making processes, rather than mere consultation or information sharing. Accordingly, in the context of development programming broad participation involving for example, children, women, minorities, rural communities and civil society organizations during the assessment and in the gathering of information can lead not only to valuable findings but to increased understanding by all members of society of what their roles are in claiming and fulfilling human rights. Furthermore, when there are spaces for people to examine problems together and agree on the causes, they are more likely to support the implementation of actions to resolve th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he role of managing effective particip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ＭＳ Ｐゴシック"/>
              </a:rPr>
              <a:t>Managing effective participation takes time and patience. Whether it takes place at the local project level or the national policy level, it is important to stress that the principal mechanism for participation should, as far as possible, be existing democratic structures. In some circumstances, establishing alternative framework for participation can undermine fledging democratic structures, create unwelcome parallel systems and, in the longer term, prove unsustainable. Nevertheless, in many cases, innovative arrangements may well be needed to facilitate the participation of marginalized groups.</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DD45-9EF2-4B45-9D9C-234A04998F6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344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ccountability and Rule of Law</a:t>
            </a:r>
            <a:r>
              <a:rPr b="1" i="1" lang="en-GB" sz="1000" spc="-1" strike="noStrike">
                <a:solidFill>
                  <a:srgbClr val="000000"/>
                </a:solidFill>
                <a:latin typeface="Calibri"/>
                <a:ea typeface="ＭＳ Ｐゴシック"/>
              </a:rPr>
              <a:t>:</a:t>
            </a:r>
            <a:r>
              <a:rPr b="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 before a competent court or other adjudicator in accordance with the rules and procedures provided by la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ese principles:</a:t>
            </a:r>
            <a:r>
              <a:rPr b="0" lang="en-GB" sz="1000" spc="-1" strike="noStrike">
                <a:solidFill>
                  <a:srgbClr val="000000"/>
                </a:solidFill>
                <a:latin typeface="Calibri"/>
                <a:ea typeface="ＭＳ Ｐゴシック"/>
              </a:rPr>
              <a:t> By voluntarily accepting the obligations of the international human rights instruments, and the corresponding domestic laws, the State and all its actors have a duty to </a:t>
            </a:r>
            <a:r>
              <a:rPr b="0" i="1" lang="en-GB" sz="1000" spc="-1" strike="noStrike">
                <a:solidFill>
                  <a:srgbClr val="000000"/>
                </a:solidFill>
                <a:latin typeface="Calibri"/>
                <a:ea typeface="ＭＳ Ｐゴシック"/>
              </a:rPr>
              <a:t>respect, protect and fulfil</a:t>
            </a:r>
            <a:r>
              <a:rPr b="0" lang="en-GB" sz="1000" spc="-1" strike="noStrike">
                <a:solidFill>
                  <a:srgbClr val="000000"/>
                </a:solidFill>
                <a:latin typeface="Calibri"/>
                <a:ea typeface="ＭＳ Ｐゴシック"/>
              </a:rPr>
              <a:t> human rights. Therefore, the question to ask is whether the relevant authorities at the State, local and community level comply with their duties? If not, what are the main obstacles?  Are there mechanisms in place for those deprived of their rights and entitlements to seek appropriate redress? Is the Rule of Law respected and enforced in the country? Do the Civil Society Organizations have the capacity to mobilize the society in monitoring and evaluating the performance of institutions and public polic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8E7A-E35D-4BC7-ABB9-F34B1C36FFD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344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he Role of Constitutional Court or Similar Institution</a:t>
            </a:r>
            <a:r>
              <a:rPr b="0" lang="en-US" sz="1000" spc="-1" strike="noStrike">
                <a:solidFill>
                  <a:srgbClr val="000000"/>
                </a:solidFill>
                <a:latin typeface="Calibri"/>
                <a:ea typeface="ＭＳ Ｐゴシック"/>
              </a:rPr>
              <a: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e existence or establishment of an independent institution, charged with the surveillance of laws adopted by the Parliament and to rule on their constitutionality and/or their conformity with international human rights norms and standards, is important in the context of an effective NHRPS. Ideally, such courts or institutions automatically review all adopted legislation. However, in many cases they review laws which have been challenged - either by the Government, the Parliament, or in some cases by a judge or members of the civil society. Prerogatives of a Constitutional Court can be mandated to the Supreme Cour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dfdfd"/>
                </a:solidFill>
                <a:latin typeface="Calibri"/>
                <a:ea typeface="SimSun"/>
              </a:rPr>
              <a:t>Constitutional &amp; Legal Frameworks Shoul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Be in conformity with international human rights norms, standards and principl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Establish frameworks for policies for human rights protec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Allow effective remedies for violations and abus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Promote participation, decision-making processes and cooperation with international and regional protection syst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8F7B-1863-4677-9B05-F6E28C1C1A6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344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ＭＳ Ｐゴシック"/>
              </a:rPr>
              <a:t>Courts in a wide range of countries and legal systems are applying international human rights principles and standards. For example, in 2002 the Constitutional Court of South Africa declared that the Government had breached its human rights obligations by failing to take reasonable measures (at affordable cost) to make wider provision of anti-retroviral medication to prevent mother-to-child transmission of HIV. This decision and the grass-roots campaign surrounding it have helped to save many lives. The successful outcomes in these cases are to a great extent attributable to the fact that litigation strategies were integrated within wider social mobilization process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E61BD-6433-4143-93D5-6333BAF37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0E228-09C1-4236-9280-257C87E51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BF58E-D27A-42B0-97A8-14BCE3F41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096FB-4F68-4837-A802-14F9EB84F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11A58-44AC-4F5D-9A48-309C94E30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353AA-93F3-4730-BC31-84D7A700C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275C2-D25D-40AD-BAE9-42BA9116A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0E57E-C2FD-4E29-8EFF-15C28E661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DD1F0-69A7-4393-8B2C-902672F76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C0C9-BD1C-4918-9292-99A37F24C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1B60A-7DAE-4214-A5B4-B75EE60E0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33FF9-7608-4E4D-BCA8-2AF0E56C1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149F-3C99-4B62-BF84-9C645FAE108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5" name="Picture 9" descr="logo_small"/>
          <p:cNvPicPr/>
          <p:nvPr/>
        </p:nvPicPr>
        <p:blipFill>
          <a:blip r:embed="rId2"/>
          <a:stretch/>
        </p:blipFill>
        <p:spPr>
          <a:xfrm>
            <a:off x="250920" y="115920"/>
            <a:ext cx="64908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Human rights principles</a:t>
            </a:r>
            <a:endParaRPr b="0" lang="en-US" sz="4400" spc="-1" strike="noStrike">
              <a:solidFill>
                <a:srgbClr val="000000"/>
              </a:solidFill>
              <a:latin typeface="Arial"/>
            </a:endParaRPr>
          </a:p>
        </p:txBody>
      </p:sp>
      <p:sp>
        <p:nvSpPr>
          <p:cNvPr id="50"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Universality and inaliena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Indivisi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Interdependence and interrelatedness</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Equality and non-discrimination</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Participation and inclusion</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Accountability and the rule of law</a:t>
            </a:r>
            <a:endParaRPr b="0" lang="en-US" sz="2600" spc="-1" strike="noStrike">
              <a:solidFill>
                <a:srgbClr val="000000"/>
              </a:solidFill>
              <a:latin typeface="Arial"/>
            </a:endParaRPr>
          </a:p>
        </p:txBody>
      </p:sp>
      <p:pic>
        <p:nvPicPr>
          <p:cNvPr id="51" name="Picture 4" descr="MCj03839580000[1]"/>
          <p:cNvPicPr/>
          <p:nvPr/>
        </p:nvPicPr>
        <p:blipFill>
          <a:blip r:embed="rId1"/>
          <a:stretch/>
        </p:blipFill>
        <p:spPr>
          <a:xfrm>
            <a:off x="5691240" y="3070080"/>
            <a:ext cx="1952640" cy="15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Equality and non-discrimination</a:t>
            </a: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is principle requir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adication of legal, institutional, interpersonal and structural discrimination</a:t>
            </a:r>
            <a:endParaRPr b="0" lang="en-US" sz="20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gramming implication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egal framework should:</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rogate discriminatory legislation</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e conducive to the enjoyment of all human rights by all</a:t>
            </a:r>
            <a:endParaRPr b="0" lang="en-US" sz="16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ublic institutions should ensure:</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presentation of marginalized or excluded group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rvices are accessible and sensitive to gender, age and cultural difference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ppropriate judicial and administrative redress mechanisms</a:t>
            </a:r>
            <a:endParaRPr b="0" lang="en-US" sz="16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ublic policies should:</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hallenge model of appropriation and concentration of resources leading to structural discrimination and exclusion</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ake affirmative step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omote education and public awareness</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articipation</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Free, active, meaningful and inclusive participation</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olicies, processes and procedures should provid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portunities for participation in planning and develop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ess to relevant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pacities to marginalized groups to formulate proposal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Institutional mechanism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based on democratic princip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t disempower existing democratic or traditional structu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ivil society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active, independent and with capacit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present the voice of the marginalized and excluded group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ve control over decision making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ility (1)</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s and other duty bearers to be answerable for the observance of human right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 institution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provided with sufficient resources, responsibilities and independent authority to effectively monitor the Govern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independent human rights parliamentary bodies, national human rights institutions, judges, courts and legal counsel</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s to cooperate with international human rights system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lying timely with international reporting oblig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viting Special Rapporteurs and providing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ing the TB/SP recommendation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ility (2)</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ccessible, effective and independent mechanisms and procedures of redres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Legal framework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in conformity with human rights nor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ablish conditions, procedures and mechanisms for rights-holders to claim their rights and duty-bearers to comply with their obligatio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ublic policie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ke progressive steps to address the weakness in the accountability syste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 the human rights obligations of the State at a central, regional and local lev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lity (3)</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This principle requires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Free and independent media, and groups of human rights defenders representative of men, women and marginalized or excluded group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Programming implication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An active, rights-sensitive civil society should:</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onitor the State compliance with its human rights oblig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rticulate concerns of the society and advocates for social human rights mechanisms</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E.g. Campaign on access to retro-viral medication in South Africa</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6:24:22Z</dcterms:created>
  <dc:creator>General User</dc:creator>
  <dc:description/>
  <dc:language>en-US</dc:language>
  <cp:lastModifiedBy>Alex MacKenzie</cp:lastModifiedBy>
  <dcterms:modified xsi:type="dcterms:W3CDTF">2010-09-08T18:52:39Z</dcterms:modified>
  <cp:revision>28</cp:revision>
  <dc:subject/>
  <dc:title>Slide 1</dc:title>
</cp:coreProperties>
</file>